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3DAF-0078-485E-AF81-726F3A9D6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6C38-3124-4B3A-BB94-56B3FC5FF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5714-66BD-4ACA-9101-033EB455D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2D7C-6427-4AA5-BDD8-ADE70DFEC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50E6-73F5-4880-B279-563E1F901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41F1-F328-4511-97C0-4AA0AB04F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D2E9-C838-4F18-BA4B-C9BFD1736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F8DF-16B2-4EA0-A514-1B38F661B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2196-5A7A-4548-AF3C-29BADA7FC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78F7-1D9B-4415-B05E-41A8F29B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A573-0F4F-4239-8DB4-2D367B4E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8BB7-C209-4C5B-83F2-23356F98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C3BAF-616E-4706-944B-0B97181DB8F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62320" y="4334040"/>
            <a:ext cx="1676160" cy="761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90920" y="2295360"/>
            <a:ext cx="1218960" cy="2048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4120" y="2295360"/>
            <a:ext cx="1218960" cy="2048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105520" y="4334040"/>
            <a:ext cx="1676160" cy="7617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219560" y="265752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給水タン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68160" y="32767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内部円筒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269960" y="38005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外部円筒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2362320" y="1906560"/>
            <a:ext cx="1658880" cy="3044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5122800" y="1906560"/>
            <a:ext cx="1658880" cy="3044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879440" y="205884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60640" y="2058840"/>
            <a:ext cx="45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3733920" y="2819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014800" y="28195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533760" y="3505320"/>
            <a:ext cx="6573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52880" y="3505320"/>
            <a:ext cx="638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952880" y="39625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09680" y="4338720"/>
            <a:ext cx="4724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23240" y="4176720"/>
            <a:ext cx="5007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地表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119560" y="1906560"/>
            <a:ext cx="1652760" cy="3371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360520" y="1906560"/>
            <a:ext cx="1652760" cy="33717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219560" y="265752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給水タン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268160" y="32767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内部円筒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269960" y="38005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外部円筒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728600" y="205884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11600" y="2058840"/>
            <a:ext cx="45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733920" y="2819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14800" y="28195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3533760" y="3505320"/>
            <a:ext cx="6573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952880" y="3505320"/>
            <a:ext cx="638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52880" y="39625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09680" y="4338720"/>
            <a:ext cx="4724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23240" y="4176720"/>
            <a:ext cx="5007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地表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0-12-31T15:00:00Z</dcterms:created>
  <dc:creator/>
  <dc:description/>
  <dc:language>en-US</dc:language>
  <cp:lastModifiedBy/>
  <dcterms:modified xsi:type="dcterms:W3CDTF">2009-02-04T01:31:51Z</dcterms:modified>
  <cp:revision>1</cp:revision>
  <dc:subject/>
  <dc:title>スライド 1</dc:title>
</cp:coreProperties>
</file>