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A28-FA51-448F-A93D-726A1084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75F-E1FF-4316-BF59-F53F9BBC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5B5-73E8-46F8-A02C-71E2B84E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A72-7622-4238-8330-B962D47A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7C2-8AFA-4F27-8A88-57FE8ED4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E6D-28F5-4604-B14D-495DB77A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73B-A587-4AF2-9637-A99ED07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E90-25DE-4AFD-9EFC-43E80640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EC0-9C3C-461D-8D53-DFDBC214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A87-59FA-413A-8B88-4A384BE3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BF0-0DC8-4E7A-BC99-0F885BF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2F6-1236-404C-92BF-E96CAE8E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BE1C-6714-4CB7-8EAF-9A7B986EF4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36880" y="1716120"/>
            <a:ext cx="2936880" cy="342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88480" y="1871640"/>
            <a:ext cx="37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0640" y="27399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32640" y="16765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湛水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32640" y="2060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地表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32640" y="2746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伝達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8280" y="3508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ぬれ前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24560" y="22096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81240" y="134460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位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水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91080" y="134460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圧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水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97560" y="35352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54600" y="3535200"/>
            <a:ext cx="44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98280" y="2065320"/>
            <a:ext cx="37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43160" y="206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419640" y="4005360"/>
          <a:ext cx="2394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005360"/>
                    <a:ext cx="239400" cy="36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230640" y="2781360"/>
          <a:ext cx="5922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30640" y="2781360"/>
                    <a:ext cx="592200" cy="35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36880" y="1716120"/>
            <a:ext cx="2936880" cy="342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88480" y="1871640"/>
            <a:ext cx="37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0640" y="27399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32640" y="16765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湛水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32640" y="2060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地表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32640" y="2746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伝達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68280" y="3508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ぬれ前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24560" y="22096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81240" y="134460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位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水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1080" y="134460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圧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水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97560" y="35352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54600" y="3535200"/>
            <a:ext cx="44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8280" y="2065320"/>
            <a:ext cx="37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43160" y="206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19640" y="4005360"/>
          <a:ext cx="2394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005360"/>
                    <a:ext cx="239400" cy="36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30640" y="2781360"/>
          <a:ext cx="5922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30640" y="2781360"/>
                    <a:ext cx="592200" cy="35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40000" y="2997360"/>
            <a:ext cx="2160720" cy="36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3357720"/>
            <a:ext cx="2160720" cy="2519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3357720"/>
            <a:ext cx="2160720" cy="1511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60560" y="2973240"/>
            <a:ext cx="2936880" cy="3305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1480" y="2781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湛水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1480" y="3139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地表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160" y="4653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ぬれ前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24560" y="3357720"/>
            <a:ext cx="833400" cy="1523880"/>
            <a:chOff x="4624560" y="3357720"/>
            <a:chExt cx="833400" cy="1523880"/>
          </a:xfrm>
        </p:grpSpPr>
        <p:sp>
          <p:nvSpPr>
            <p:cNvPr id="85" name=""/>
            <p:cNvSpPr/>
            <p:nvPr/>
          </p:nvSpPr>
          <p:spPr>
            <a:xfrm>
              <a:off x="4911480" y="3932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伝達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24560" y="33577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3336840" y="5229360"/>
          <a:ext cx="23976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6840" y="5229360"/>
                    <a:ext cx="239760" cy="36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159000" y="3932280"/>
          <a:ext cx="5922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9000" y="3932280"/>
                    <a:ext cx="592200" cy="35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628640" y="2997360"/>
            <a:ext cx="639720" cy="370800"/>
            <a:chOff x="1628640" y="2997360"/>
            <a:chExt cx="639720" cy="370800"/>
          </a:xfrm>
        </p:grpSpPr>
        <p:sp>
          <p:nvSpPr>
            <p:cNvPr id="92" name=""/>
            <p:cNvSpPr/>
            <p:nvPr/>
          </p:nvSpPr>
          <p:spPr>
            <a:xfrm>
              <a:off x="1628640" y="299736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79640" y="299736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9640" y="335772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24000" y="299736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619280" y="3357720"/>
            <a:ext cx="649080" cy="1511280"/>
            <a:chOff x="1619280" y="3357720"/>
            <a:chExt cx="649080" cy="1511280"/>
          </a:xfrm>
        </p:grpSpPr>
        <p:sp>
          <p:nvSpPr>
            <p:cNvPr id="97" name=""/>
            <p:cNvSpPr/>
            <p:nvPr/>
          </p:nvSpPr>
          <p:spPr>
            <a:xfrm>
              <a:off x="1619280" y="3932280"/>
              <a:ext cx="37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79640" y="48690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4000" y="335772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938920" y="1769760"/>
            <a:ext cx="1149120" cy="3254040"/>
            <a:chOff x="5938920" y="1769760"/>
            <a:chExt cx="1149120" cy="3254040"/>
          </a:xfrm>
        </p:grpSpPr>
        <p:sp>
          <p:nvSpPr>
            <p:cNvPr id="101" name=""/>
            <p:cNvSpPr/>
            <p:nvPr/>
          </p:nvSpPr>
          <p:spPr>
            <a:xfrm>
              <a:off x="6659640" y="46530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38920" y="4653000"/>
              <a:ext cx="449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69000" y="31402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3080" y="3140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5400" y="1769760"/>
              <a:ext cx="423720" cy="11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位置水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64320" y="1769760"/>
              <a:ext cx="423720" cy="11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圧力水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グリーン・アンプトの浸透モデ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41640" y="2897280"/>
            <a:ext cx="225360" cy="225360"/>
            <a:chOff x="3941640" y="2897280"/>
            <a:chExt cx="225360" cy="225360"/>
          </a:xfrm>
        </p:grpSpPr>
        <p:sp>
          <p:nvSpPr>
            <p:cNvPr id="109" name=""/>
            <p:cNvSpPr/>
            <p:nvPr/>
          </p:nvSpPr>
          <p:spPr>
            <a:xfrm>
              <a:off x="4030560" y="3122640"/>
              <a:ext cx="46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86280" y="3076560"/>
              <a:ext cx="134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41640" y="3031920"/>
              <a:ext cx="225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986280" y="2897280"/>
              <a:ext cx="134640" cy="88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5:00:00Z</dcterms:created>
  <dc:creator/>
  <dc:description/>
  <dc:language>en-US</dc:language>
  <cp:lastModifiedBy/>
  <dcterms:modified xsi:type="dcterms:W3CDTF">2009-02-04T01:30:39Z</dcterms:modified>
  <cp:revision>1</cp:revision>
  <dc:subject/>
  <dc:title>スライド 1</dc:title>
</cp:coreProperties>
</file>