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E58-0B62-4569-8445-7BDA686E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213-ED54-4EB4-88A0-5AA9101C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A4C-7819-4408-B94C-B5A199D1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E7C-234F-4DB7-83EE-C96580B0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4BD-0442-4D7F-83DB-09935401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C0D-827A-47C2-9E8A-28D6273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FFE-607F-4079-8E06-CD0E00B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017-C052-4A5E-9329-C0EC6C4B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25C-A773-40CD-A9FF-4FE61390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CD0-D48B-4A8E-96A1-751420E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9B1-45B3-4476-A30F-A5A8D82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B72-A03C-447A-9341-36A4DCF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41EE-14E7-42E9-8E17-4CBF38284A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4334040"/>
            <a:ext cx="167616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2295360"/>
            <a:ext cx="1218960" cy="2048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295360"/>
            <a:ext cx="1218960" cy="2048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4334040"/>
            <a:ext cx="167616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19560" y="26575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給水タン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8160" y="3276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内部円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9960" y="3800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外部円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362320" y="1906560"/>
            <a:ext cx="1658880" cy="304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22800" y="1906560"/>
            <a:ext cx="1658880" cy="304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9440" y="2058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60640" y="2058840"/>
            <a:ext cx="4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7339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1480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533760" y="3505320"/>
            <a:ext cx="657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3505320"/>
            <a:ext cx="638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33872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3240" y="4176720"/>
            <a:ext cx="500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地表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19560" y="1906560"/>
            <a:ext cx="165276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60520" y="1906560"/>
            <a:ext cx="1652760" cy="337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9560" y="26575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給水タン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8160" y="3276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内部円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9960" y="3800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外部円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8600" y="2058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11600" y="2058840"/>
            <a:ext cx="4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7339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1480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533760" y="3505320"/>
            <a:ext cx="657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505320"/>
            <a:ext cx="638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433872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23240" y="4176720"/>
            <a:ext cx="500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地表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5:00:00Z</dcterms:created>
  <dc:creator/>
  <dc:description/>
  <dc:language>en-US</dc:language>
  <cp:lastModifiedBy/>
  <dcterms:modified xsi:type="dcterms:W3CDTF">2009-02-04T01:31:51Z</dcterms:modified>
  <cp:revision>1</cp:revision>
  <dc:subject/>
  <dc:title>スライド 1</dc:title>
</cp:coreProperties>
</file>