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8787-EC5B-4566-B79F-C87436F6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0A76-7DD6-49E6-A265-4D109B8A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A6D-DD9E-425C-8506-BCDD51C7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F27-8529-44B0-A002-E64A117C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90B0-82D3-4078-94CB-8720DBBB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0076-8B63-4DF5-BF04-B098AAFE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B06-67C5-44E7-B91F-2AD0AF3B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63B3-0308-468D-A5B4-430FF209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5DE-BD41-4684-B754-4ACE9135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8FA-F46E-4F08-92FE-DEBA506B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180-69DE-4E40-AB46-C0D49E98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ABF5-9269-4500-9295-466BBEFF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B3F2-FBB5-4DF4-B05D-CE4CFCDB97D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36880" y="1716120"/>
            <a:ext cx="2936880" cy="3424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88480" y="1871640"/>
            <a:ext cx="377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90640" y="273996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32640" y="16765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湛水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32640" y="20606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地表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32640" y="27464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伝達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68280" y="3508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ぬれ前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24560" y="22096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81240" y="1344600"/>
            <a:ext cx="3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位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水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91080" y="1344600"/>
            <a:ext cx="3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圧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水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97560" y="3535200"/>
            <a:ext cx="3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54600" y="3535200"/>
            <a:ext cx="449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98280" y="2065320"/>
            <a:ext cx="377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43160" y="206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419640" y="4005360"/>
          <a:ext cx="239400" cy="36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4005360"/>
                    <a:ext cx="239400" cy="36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230640" y="2781360"/>
          <a:ext cx="592200" cy="35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30640" y="2781360"/>
                    <a:ext cx="592200" cy="350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36880" y="1716120"/>
            <a:ext cx="2936880" cy="342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88480" y="1871640"/>
            <a:ext cx="377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0640" y="273996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32640" y="16765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湛水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32640" y="20606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地表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32640" y="27464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伝達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68280" y="3508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ぬれ前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24560" y="22096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81240" y="1344600"/>
            <a:ext cx="3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位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水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91080" y="1344600"/>
            <a:ext cx="3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圧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水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97560" y="3535200"/>
            <a:ext cx="3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54600" y="3535200"/>
            <a:ext cx="449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98280" y="2065320"/>
            <a:ext cx="377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43160" y="206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419640" y="4005360"/>
          <a:ext cx="239400" cy="36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4005360"/>
                    <a:ext cx="239400" cy="36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230640" y="2781360"/>
          <a:ext cx="592200" cy="35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30640" y="2781360"/>
                    <a:ext cx="592200" cy="350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40000" y="2997360"/>
            <a:ext cx="2160720" cy="360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40000" y="3357720"/>
            <a:ext cx="2160720" cy="2519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40000" y="3357720"/>
            <a:ext cx="2160720" cy="1511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60560" y="2973240"/>
            <a:ext cx="2936880" cy="3305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11480" y="2781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湛水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11480" y="31399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地表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160" y="4653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ぬれ前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624560" y="3357720"/>
            <a:ext cx="833400" cy="1523880"/>
            <a:chOff x="4624560" y="3357720"/>
            <a:chExt cx="833400" cy="1523880"/>
          </a:xfrm>
        </p:grpSpPr>
        <p:sp>
          <p:nvSpPr>
            <p:cNvPr id="85" name=""/>
            <p:cNvSpPr/>
            <p:nvPr/>
          </p:nvSpPr>
          <p:spPr>
            <a:xfrm>
              <a:off x="4911480" y="3932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伝達帯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24560" y="3357720"/>
              <a:ext cx="152280" cy="15238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3336840" y="5229360"/>
          <a:ext cx="239760" cy="36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36840" y="5229360"/>
                    <a:ext cx="239760" cy="36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159000" y="3932280"/>
          <a:ext cx="592200" cy="35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59000" y="3932280"/>
                    <a:ext cx="592200" cy="350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91" name=""/>
          <p:cNvGrpSpPr/>
          <p:nvPr/>
        </p:nvGrpSpPr>
        <p:grpSpPr>
          <a:xfrm>
            <a:off x="1628640" y="2997360"/>
            <a:ext cx="639720" cy="370800"/>
            <a:chOff x="1628640" y="2997360"/>
            <a:chExt cx="639720" cy="370800"/>
          </a:xfrm>
        </p:grpSpPr>
        <p:sp>
          <p:nvSpPr>
            <p:cNvPr id="92" name=""/>
            <p:cNvSpPr/>
            <p:nvPr/>
          </p:nvSpPr>
          <p:spPr>
            <a:xfrm>
              <a:off x="1628640" y="2997360"/>
              <a:ext cx="40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79640" y="299736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79640" y="335772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24000" y="299736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619280" y="3357720"/>
            <a:ext cx="649080" cy="1511280"/>
            <a:chOff x="1619280" y="3357720"/>
            <a:chExt cx="649080" cy="1511280"/>
          </a:xfrm>
        </p:grpSpPr>
        <p:sp>
          <p:nvSpPr>
            <p:cNvPr id="97" name=""/>
            <p:cNvSpPr/>
            <p:nvPr/>
          </p:nvSpPr>
          <p:spPr>
            <a:xfrm>
              <a:off x="1619280" y="3932280"/>
              <a:ext cx="372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79640" y="486900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24000" y="3357720"/>
              <a:ext cx="0" cy="15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938920" y="1769760"/>
            <a:ext cx="1149120" cy="3254040"/>
            <a:chOff x="5938920" y="1769760"/>
            <a:chExt cx="1149120" cy="3254040"/>
          </a:xfrm>
        </p:grpSpPr>
        <p:sp>
          <p:nvSpPr>
            <p:cNvPr id="101" name=""/>
            <p:cNvSpPr/>
            <p:nvPr/>
          </p:nvSpPr>
          <p:spPr>
            <a:xfrm>
              <a:off x="6659640" y="46530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38920" y="4653000"/>
              <a:ext cx="449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69000" y="3140280"/>
              <a:ext cx="40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13080" y="3140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45400" y="1769760"/>
              <a:ext cx="423720" cy="11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位置水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64320" y="1769760"/>
              <a:ext cx="423720" cy="11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圧力水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6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グリーン・アンプトの浸透モデ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941640" y="2897280"/>
            <a:ext cx="225360" cy="225360"/>
            <a:chOff x="3941640" y="2897280"/>
            <a:chExt cx="225360" cy="225360"/>
          </a:xfrm>
        </p:grpSpPr>
        <p:sp>
          <p:nvSpPr>
            <p:cNvPr id="109" name=""/>
            <p:cNvSpPr/>
            <p:nvPr/>
          </p:nvSpPr>
          <p:spPr>
            <a:xfrm>
              <a:off x="4030560" y="3122640"/>
              <a:ext cx="46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86280" y="3076560"/>
              <a:ext cx="1346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41640" y="3031920"/>
              <a:ext cx="225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986280" y="2897280"/>
              <a:ext cx="134640" cy="88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15:00:00Z</dcterms:created>
  <dc:creator/>
  <dc:description/>
  <dc:language>en-US</dc:language>
  <cp:lastModifiedBy/>
  <dcterms:modified xsi:type="dcterms:W3CDTF">2009-02-04T01:30:39Z</dcterms:modified>
  <cp:revision>1</cp:revision>
  <dc:subject/>
  <dc:title>スライド 1</dc:title>
</cp:coreProperties>
</file>